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7677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720" y="6237360"/>
            <a:ext cx="16765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1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33720" y="6248520"/>
            <a:ext cx="5029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LF International Technical Conferece, Yokohama,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15200" y="6248520"/>
            <a:ext cx="11430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6F9D7BD2-F87D-4866-8999-2F4AC645B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438280"/>
            <a:ext cx="7772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he Kernel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Performanc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K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5221440"/>
            <a:ext cx="8398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ny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u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ile kernel with KFI en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t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K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 kfi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m2addr kficonf System.map &gt;kficonf.addr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kficonf.addrmap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me the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o “prime”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trigger fires, Trace is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p trigger fires, or user stops trace, or buffer is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o “stop”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trace from ker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d trace from kernel, and write it to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/proc/kfi_trace &gt;/tmp/trace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olve addresses on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/scripts/addr2sym &lt;trace.log -m System.map &gt;trace.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log directly for individual call events and function d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‘kd’ for aggregate function counts and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‘kd -c’ to show ascii call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kernel execution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iming of kernel 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roblem areas – routines with long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Code P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kernel source is very large, and code paths are often very difficult to follow i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486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FI can show “gory details” and the real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048120"/>
          <a:ext cx="7238880" cy="19555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 can’t tell if code is compiled in or n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mp tables and calls through function poi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 function executed determined at run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emption points and interru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 unexpected execution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hard-to-follow routin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8250_init (ex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772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i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uart_register_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serial8250_register_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uart_add_one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uart_configure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serial8250_config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serial8250_request_std_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tty_register_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register_cons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serial8250_console_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|  uart_set_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|  |  serial8250_set_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|  |  |  uart_get_baud_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286000"/>
            <a:ext cx="3353040" cy="1523880"/>
          </a:xfrm>
          <a:prstGeom prst="wedgeRectCallout">
            <a:avLst>
              <a:gd name="adj1" fmla="val -83523"/>
              <a:gd name="adj2" fmla="val 2416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cing back and forth between serial_core code and driver code.  Difficult to follow in source due to jumps through call 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KD to answer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77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functions ar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ong do the functions t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times are the functions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“problem” functions (where most time is spen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 – Find delays in boot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up log (unresol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up log (with symbols resol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es of the data using ‘k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art entry start_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op entry to_user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intime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axti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n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495680"/>
            <a:ext cx="3352680" cy="1067040"/>
          </a:xfrm>
          <a:prstGeom prst="wedgeRectCallout">
            <a:avLst>
              <a:gd name="adj1" fmla="val -67898"/>
              <a:gd name="adj2" fmla="val -10610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keep functions lasting 500 microseconds or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iminate shorter 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2438280"/>
            <a:ext cx="2209680" cy="1524240"/>
          </a:xfrm>
          <a:prstGeom prst="wedgeRectCallout">
            <a:avLst>
              <a:gd name="adj1" fmla="val -77157"/>
              <a:gd name="adj2" fmla="val -1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race on entry to kernel, and stop just before entering use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ec of /sbin/in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673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Log (unresolv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76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rnel Instrumentation Run 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arted at 0 usec by entry to function 0xc00087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opped at 13199877 usec by exit from function 0xc00240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ter Coun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cution time filter count = 1555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entries filtered = 1555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ies not found = 3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entries after filters = 14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y    Delta     PID        Function                       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 -------- -------- ----------------                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-1       0  0xc000877c                       0x10008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958       0  0xc000ddd0                       0xc00088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948       0  0xc000fe14                       0xc000d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938       0  0xc000fd20                       0xc000fe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     919       0  0xc0044c9c                       0xc000fd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2209680"/>
            <a:ext cx="3962520" cy="762120"/>
          </a:xfrm>
          <a:prstGeom prst="wedgeRectCallout">
            <a:avLst>
              <a:gd name="adj1" fmla="val -97837"/>
              <a:gd name="adj2" fmla="val -610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imes are in microsec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lasted 13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3048120"/>
            <a:ext cx="3352680" cy="914400"/>
          </a:xfrm>
          <a:prstGeom prst="wedgeRectCallout">
            <a:avLst>
              <a:gd name="adj1" fmla="val -84375"/>
              <a:gd name="adj2" fmla="val -3836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 of short functions eliminated from trace (&gt;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638680"/>
            <a:ext cx="3352680" cy="762120"/>
          </a:xfrm>
          <a:prstGeom prst="wedgeRectCallout">
            <a:avLst>
              <a:gd name="adj1" fmla="val -86648"/>
              <a:gd name="adj2" fmla="val -1460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addresses are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K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744640"/>
            <a:ext cx="7770960" cy="411336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FI = Kernel Function Instr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FI uses gcc “–finstrument-functions” to insert callout code for every function entry and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for trace collection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ing, filtering, triggers for starting and st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tool for trace display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Log (resolv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67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rnel Instrumentation Run 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arted at 13762527 usec by entry to function start_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opped at 23905279 usec by log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ter Coun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cution time filter count = 754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entries filtered = 754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ies not found = 72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entries after filters = 2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y    Delta     PID        Function                       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 -------- -------- ----------------                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      -1       0  start_kernel                     skpinv+0x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92    25317       0  setup_arch                       start_kernel+0x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00     1390       0  do_init_bootmem                  setup_arch+0x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37     1352       0  free_bootmem                     do_init_bootmem+0x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39     1348       0  free_bootmem_core                free_bootmem+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1905120"/>
            <a:ext cx="3352680" cy="761760"/>
          </a:xfrm>
          <a:prstGeom prst="wedgeRectCallout">
            <a:avLst>
              <a:gd name="adj1" fmla="val -37782"/>
              <a:gd name="adj2" fmla="val 28145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names and callpoi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638680"/>
            <a:ext cx="3352680" cy="990720"/>
          </a:xfrm>
          <a:prstGeom prst="wedgeRectCallout">
            <a:avLst>
              <a:gd name="adj1" fmla="val -56393"/>
              <a:gd name="adj2" fmla="val -13589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 indicates function where the exit was not seen during the 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tup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 1325    140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49000      2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40085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40081      1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 3598    15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  3608   -97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30942    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30938     4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04920"/>
            <a:ext cx="3276720" cy="380880"/>
          </a:xfrm>
          <a:prstGeom prst="wedgeRectCallout">
            <a:avLst>
              <a:gd name="adj1" fmla="val -71222"/>
              <a:gd name="adj2" fmla="val 13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“top” 15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990720"/>
            <a:ext cx="4419720" cy="380880"/>
          </a:xfrm>
          <a:prstGeom prst="wedgeRectCallout">
            <a:avLst>
              <a:gd name="adj1" fmla="val -33981"/>
              <a:gd name="adj2" fmla="val 18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time in timer_interrupt (8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4343400"/>
            <a:ext cx="2133720" cy="990720"/>
          </a:xfrm>
          <a:prstGeom prst="wedgeRectCallout">
            <a:avLst>
              <a:gd name="adj1" fmla="val -130879"/>
              <a:gd name="adj2" fmla="val -2424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time processing softirqs (4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tup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 1325    140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49000      2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40085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40081      1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 3598    15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  3608   -97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30942    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30938     4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28600"/>
            <a:ext cx="4114800" cy="685800"/>
          </a:xfrm>
          <a:prstGeom prst="wedgeRectCallout">
            <a:avLst>
              <a:gd name="adj1" fmla="val -13657"/>
              <a:gd name="adj2" fmla="val 30879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nested – KFI shows wall-time duration of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943600"/>
            <a:ext cx="4114800" cy="914400"/>
          </a:xfrm>
          <a:prstGeom prst="wedgeRectCallout">
            <a:avLst>
              <a:gd name="adj1" fmla="val 1157"/>
              <a:gd name="adj2" fmla="val -25712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local time indicates bottom of call chain – where time was sp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143000"/>
            <a:ext cx="4114800" cy="914400"/>
          </a:xfrm>
          <a:prstGeom prst="wedgeRectCallout">
            <a:avLst>
              <a:gd name="adj1" fmla="val 43750"/>
              <a:gd name="adj2" fmla="val 1824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tect nesting when functions have similar times and call 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tup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 1325    140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49000      2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40085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40081      1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 3598    15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  3608   -97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30942    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30938     4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410080"/>
            <a:ext cx="4495680" cy="1067040"/>
          </a:xfrm>
          <a:prstGeom prst="wedgeRectCallout">
            <a:avLst>
              <a:gd name="adj1" fmla="val 46398"/>
              <a:gd name="adj2" fmla="val -1828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were sub-routines called by serial8260_console_write, but they were eliminated by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 Sorted by Local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67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-s l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switch_to                            26   364138    14005   364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fs_lookup                           57   187251     3285   1872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might_sleep                          13   107389     8260   1073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alloc                       51   179071     3511    704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empt_schedule                       21    66924     3186    66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object_add                           213   873241     4099    56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fs_make_dirent                      29   105991     3654    55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ode_init_once                         4    47227    11806    47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914400"/>
            <a:ext cx="4114800" cy="380880"/>
          </a:xfrm>
          <a:prstGeom prst="wedgeRectCallout">
            <a:avLst>
              <a:gd name="adj1" fmla="val -98379"/>
              <a:gd name="adj2" fmla="val -1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y local time with “-s 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334120"/>
            <a:ext cx="4114800" cy="1523880"/>
          </a:xfrm>
          <a:prstGeom prst="wedgeRectCallout">
            <a:avLst>
              <a:gd name="adj1" fmla="val 91435"/>
              <a:gd name="adj2" fmla="val -21302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routines where time was most spent, and either no sub-functions were called, or the sub-functions were not included in the tr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 showing max subrou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$ kd -n 15 -f Fctlmn ebony-start.l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Local    Max-sub                             Ms 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--------------------------- ------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7898788                update_process_times      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14035                        __do_softirq     286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3790472                   sub_preempt_count     28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3868                call_console_drivers       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  264               _call_console_drivers       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  144              __call_console_drivers       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  151            serial8250_console_write       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1763450                                           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80801                    sysfs_create_dir      1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15384             class_simple_device_add      3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58236                    class_device_add      2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-97058               class_device_register      2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64904                         kobject_add      2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  122                             vprintk      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 4385                 release_console_sem      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28600"/>
            <a:ext cx="5486400" cy="685800"/>
          </a:xfrm>
          <a:prstGeom prst="wedgeRectCallout">
            <a:avLst>
              <a:gd name="adj1" fmla="val -64759"/>
              <a:gd name="adj2" fmla="val 627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fields to show. ‘m’=max subroutine (child sub-routine where most time was sp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4714200">
            <a:off x="1751760" y="281952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486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4714200">
            <a:off x="761400" y="548640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57913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-1105200" y="4076640"/>
            <a:ext cx="2971800" cy="7621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20043" y="8280"/>
                </a:moveTo>
                <a:arcTo wR="-9580" hR="-9580" stAng="-915025" swAng="-8474594"/>
                <a:lnTo>
                  <a:pt x="20704" y="15108"/>
                </a:lnTo>
                <a:arcTo wR="10800" hR="10800" stAng="1410381" swAng="8474594"/>
                <a:lnTo>
                  <a:pt x="-2225" y="14351"/>
                </a:lnTo>
                <a:lnTo>
                  <a:pt x="98" y="10287"/>
                </a:lnTo>
                <a:lnTo>
                  <a:pt x="4162" y="126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4714200">
            <a:off x="1828080" y="304812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4714200">
            <a:off x="1904400" y="335268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4714200">
            <a:off x="2056680" y="358128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4320" y="3683160"/>
            <a:ext cx="870120" cy="425160"/>
          </a:xfrm>
          <a:prstGeom prst="donut">
            <a:avLst>
              <a:gd name="adj" fmla="val 8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08960" y="3740040"/>
            <a:ext cx="482760" cy="317520"/>
          </a:xfrm>
          <a:prstGeom prst="donut">
            <a:avLst>
              <a:gd name="adj" fmla="val 8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-system ini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7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ebony-start.lst | grep "_init[^a-z_]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sole_init                            1   740406   740406      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init                 1   740381   740381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_init                                1   145839   145839     51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fs_caches_init                         1    75011    75011      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nt_init                                1    74025    74025      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b_init                                1    46636    46636     1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b_hub_init                            1    44810    44810      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link_proto_init                      1    44141    44141      5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cibios_init                            1    36910    36910      4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object_init                           11    35315     3210     80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ref_init                               1    16821    16821    16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ging_init                             1    14019    14019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ee_area_init                          1    14016    14016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ctl_init                             1    13017    13017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p_driver_init                         1    12577    12577     3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_sysfs_init                        1     6410     6410      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init                         1     5084     5084     50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 – Tracing do_f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data using ‘k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graph using ‘kd –c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ace mode vs. non-interlace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nfiguration for do_f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 start entry do_f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 stop exit do_f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mintim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maxtim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n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5029200"/>
            <a:ext cx="2666880" cy="380880"/>
          </a:xfrm>
          <a:prstGeom prst="wedgeRectCallout">
            <a:avLst>
              <a:gd name="adj1" fmla="val -99166"/>
              <a:gd name="adj2" fmla="val -20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iltering b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200400"/>
            <a:ext cx="3352680" cy="609480"/>
          </a:xfrm>
          <a:prstGeom prst="wedgeRectCallout">
            <a:avLst>
              <a:gd name="adj1" fmla="val -72111"/>
              <a:gd name="adj2" fmla="val -106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a single routine from entry to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_fork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 ebony-do_fork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fork                                 1    11100    11100      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empt_schedule                       26     9086      349      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ke_up_new_task                        1     9079     9079      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hedule                                2     9017     4508       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switch_to                             2     8961     4480     89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nfs_revalidate_inode                  3     5827     1942      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k_path_walk                          3     5788     1929      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fs_proc_getattr                        3     5687     1895      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pc_call_sync                           3     5666     1888      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pc_execute                             3     5097     1699     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rpc_execute                           3     5078     1692      1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n_exec                               2     4250     2125     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h_lookup                             2     3929     1964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transmit                           3     3831     1277      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lookup                               5     3739      747      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 vs. Profi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ROFILE takes samples of kernel (and application) execution location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n’t give complete tra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for statistical analysis of execution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FI gives exact trace of execution for a singl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s all executed rou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for analyzing special cases (e.g. boot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_fork Functions Sorted by Local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67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-s l ebony-do_fork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switch_to                             2     8961     4480     89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  10     1537      153     15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v_queue_xmit                          3     1474      491     14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  12     1092       91     10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prt_transmit                           3     3510     1170      5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_preempt_count                     237      449        1      4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alloc                       35      433       12      3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IRQ                                  1      369      369      3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igh_resolve_output                    3     1849      616      3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mm                                 1     1702     1702      3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prt_release                            3      506      168      2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ck_kernel                            39      228        5      2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user_page                          6      216       36      2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te_range                         17      475       27      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_finish_output                        3     2050      683      1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228600"/>
            <a:ext cx="3353040" cy="914400"/>
          </a:xfrm>
          <a:prstGeom prst="wedgeRectCallout">
            <a:avLst>
              <a:gd name="adj1" fmla="val 39203"/>
              <a:gd name="adj2" fmla="val 1368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y caused by context switching – should ignore __switch_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 Sorted by Call 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67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-s c ebony-do_fork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_preempt_count                     237      449        1      4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might_sleep                          78      149        1      1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lock_kernel                          39      114        2      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ck_kernel                            39      228        5      2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alloc                       35      433       12      3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mod_page_state                       28       56        2       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empt_schedule                       26     9086      349      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te_alloc_map                          23      212        9      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fs_attribute_timeout                  22      163        7      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n_vma_link                          17       82        4   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vma_link_rb                          17      225       13     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ud_range                         17      611       35      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d_resched_lock                      17       33        1      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age_range                        17      681       40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md_range                         17      545       32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767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kd -c -l do_fork.l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ry      Duration   Local     Pid  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 ---------- ---------- ----- 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      11100         57    19 do_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          5          5    19 |  alloc_pidm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4       1959         70    19 |  copy_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        80         16    19 |  |  dup_task_str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9          6          4    19 |  |  |  prepare_to_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       2          2    19 |  |  |  |  sub_preempt_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          6          4    19 |  |  |  kmem_cache_al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          2          2    19 |  |  |  |  __might_sl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         52          4    19 |  |  |  __get_free_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9         48         14    19 |  |  |  |  __alloc_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1          2          2    19 |  |  |  |  |  __might_sl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6          2          2    19 |  |  |  |  |  zone_watermark_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1         29         14    19 |  |  |  |  |  buffered_rmque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4          3          3    19 |  |  |  |  |  |  __rmque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9          2          2    19 |  |  |  |  |  |  sub_preempt_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3          2          2    19 |  |  |  |  |  |  bad_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8          2          2    19 |  |  |  |  |  |  __mod_page_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2          6          4    19 |  |  |  |  |  |  prep_new_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4          2          2    19 |  |  |  |  |  |  |  set_page_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3          1          1    19 |  |  |  |  |  zone_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2         17          6    19 |  |  do_posix_clock_monotonic_get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19920" y="2590920"/>
            <a:ext cx="3124080" cy="914400"/>
          </a:xfrm>
          <a:prstGeom prst="wedgeRectCallout">
            <a:avLst>
              <a:gd name="adj1" fmla="val -94513"/>
              <a:gd name="adj2" fmla="val 508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ifferent punctuation to show different threads of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 – with Interru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67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286          2          2    41 {  {  {  {  {  {  set_page_r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294          2          2    41 {  {  {  {  zone_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00        130        130    41 {  {  {  copy_user_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%%%% start 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12        106        106    41 timer_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%%%% end 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]]]] start 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83         29          4    41 do_softir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85         25         25    41 ]  __do_softir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]]]] end 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**** start 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14          2          2    41 sub_preempt_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**** end 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32          2          2    41 {  {  {  page_remove_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36         16         16    41 {  {  {  update_mmu_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54          5          3    41 {  {  {  lru_cache_add_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55          2          2    41 {  {  {  {  sub_preempt_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590920"/>
            <a:ext cx="3124080" cy="914400"/>
          </a:xfrm>
          <a:prstGeom prst="wedgeRectCallout">
            <a:avLst>
              <a:gd name="adj1" fmla="val -164430"/>
              <a:gd name="adj2" fmla="val -149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ifferent punctuation to show different threads of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3124080" cy="914400"/>
          </a:xfrm>
          <a:prstGeom prst="wedgeRectCallout">
            <a:avLst>
              <a:gd name="adj1" fmla="val 9907"/>
              <a:gd name="adj2" fmla="val 1394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ace” mode shows call graphs for interrupting code nested inside other 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 – with Thread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67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6       9079         30    19 |  wake_up_new_tas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8          3          3    19 |  |  task_rq_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84          2          2    19 |  |  effective_p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0          1          1    19 |  |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4       9043         25    19 |  |  preempt_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6       9018         52    19 |  |  |  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8          2          2    19 |  |  |  |  profile_h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02          2          2    19 |  |  |  |  sched_c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1       8962       8962    19 |  |  |  |  __switch_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5         11          4    41 schedule_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7          7          6    41 $  finish_task_swit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20          1          1    41 $  $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3        173         11    41 do_page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5          2          2    41 /  __might_sle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0          2          2    41 /  find_v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5        158         10    41 /  handle_mm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7          2          2    41 /  /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429000"/>
            <a:ext cx="2438280" cy="914400"/>
          </a:xfrm>
          <a:prstGeom prst="wedgeRectCallout">
            <a:avLst>
              <a:gd name="adj1" fmla="val -136652"/>
              <a:gd name="adj2" fmla="val 3142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punctuation shows different thread of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 – with Thread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67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6       9079         30    19 |  wake_up_new_tas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8          3          3    19 |  |  task_rq_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84          2          2    19 |  |  effective_p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0          1          1    19 |  |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4       9043         25    19 |  |  preempt_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6       9018         52    19 |  |  |  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8          2          2    19 |  |  |  |  profile_h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02          2          2    19 |  |  |  |  sched_c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1       8962       8962    19 |  |  |  |  __switch_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5         11          4    41 schedule_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7          7          6    41 $  finish_task_swit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20          1          1    41 $  $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3        173         11    41 do_page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5          2          2    41 /  __might_sle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0          2          2    41 /  find_v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5        158         10    41 /  handle_mm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7          2          2    41 /  /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race for do_fork – another Thread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67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60         16         16    41 /  /  /  update_mmu_ca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78          7          5    41 /  /  /  lru_cache_add_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81          2          2    41 /  /  /  /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87          6          4    41 /  /  /  page_add_anon_r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89          2          2    41 /  /  /  /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96          2          2    41 /  /  /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11        267          8    41 do_page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13          2          2    41 {  __might_sle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17          2          2    41 {  find_v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21        255          9    41 {  handle_mm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23          2          2    41 {  {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27          2          2    41 {  {  pte_alloc_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1        242         24    41 {  {  do_wp_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3          2          2    41 {  {  {  can_share_swap_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7         10          6    41 {  {  {  unlock_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9          2          2    41 {  {  {  {  page_waitque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43          2          2    41 {  {  {  {  __wake_up_b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 – Tracing serial8250_i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ation of call t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nfiguration for serial8250_i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art entry serial8250_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op exit serial8250_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inti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axti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19920" y="2590920"/>
            <a:ext cx="3124080" cy="609480"/>
          </a:xfrm>
          <a:prstGeom prst="wedgeRectCallout">
            <a:avLst>
              <a:gd name="adj1" fmla="val -160722"/>
              <a:gd name="adj2" fmla="val 2242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uld not finish routine because log filled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Log (resolv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6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rnel Instrumentation Run 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arted at 1285942 usec by entry to function serial8250_i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opped at 1796103 usec by log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ter Coun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entries filter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ies not found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entries after filters = 2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y    Delta     PID        Function                       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 -------- -------- ----------------                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       -1       1  serial8250_init                  do_initcalls+0x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     2245       1  printk                           serial8250_init+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6     2214       1  vprintk                          printk+0x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9      123       1  vscnprintf                       vprintk+0x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2598840"/>
            <a:ext cx="3124080" cy="609480"/>
          </a:xfrm>
          <a:prstGeom prst="wedgeRectCallout">
            <a:avLst>
              <a:gd name="adj1" fmla="val -99847"/>
              <a:gd name="adj2" fmla="val -34088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uld not finish routine because log filled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2593800"/>
            <a:ext cx="3124080" cy="609840"/>
          </a:xfrm>
          <a:prstGeom prst="wedgeRectCallout">
            <a:avLst>
              <a:gd name="adj1" fmla="val -96699"/>
              <a:gd name="adj2" fmla="val 6692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uld not finish routine because log filled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 vs. Event tra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nt tracer (e.g. LTT or L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s small number of discreet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ch lowe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for long trace (even contino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s interactions between threads and processes – e.g. stat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efully chosen even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FI traces every kerne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overhead, but very high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omap-serial_init.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highligh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1 usec - ‘-1’ duration means exit was not seen during t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bad, I expected routine to complete quickly.  Something else happened during 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4096 usec - interrupt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0 usec for hard portion, 192 usec for soft p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5702 usec - back to main thread (interrupt comple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10161 usec - call to create_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0190 usec - another call to a different create_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areful of namespace (all functions are in trace namespace, even if they are st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iming data for different routines may be combined, even if they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e kd is somewhat stu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51580 usec - finally see some interaction with the serial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more than 50 milliseconds just to do device driver setup unrelated to the serial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 (cont.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81457 usec - here’s another much longer timer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liseconds to perform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a timer tick where more processing was performed (updating system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97724 usec - call to ‘call_console_drivers’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intk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rom wakeup via console semaph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97279 usec - serial8250_console_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ing to output all the data from the print log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 (cont.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rest of trace is outputting print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was pent up waiting for console to be 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97719 usec - serial_out followed by 4 serial_i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pattern for outputting a single char is to write char and wait for buffer to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usec per operation = 55 usec per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ing results in long delays.  Why isn’t buffering and interrupts being used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Tim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time” is calculated by subtracting wall time of children from wall time of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– filtering removes functions – local time can be in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 problem with asynchronous rou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rning – system effectively ignores calls that don't return (e.g. schedule, switch_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ki p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tree.celinuxforum.org/CelfPubWiki/KernelFunction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tree.celinuxforum.org/CelfPutWiki/Patch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inux-dev@tree.celinuxforum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7720" y="270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 Performance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FI measures function duration time by default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log has entry time and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FI keeps a stack of entered functions which is searches on function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overhead is low, because function being exited is first item on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is wall time from entry to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take into account (subtract) interrupts and threa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straightline code that does not block or get stuck on locks or semaph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and start a trace from user-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ation written to /proc/k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kficonf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ation is compiled into kernel, and started automatically on 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ation in kernel/kfistatic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s are collected from /proc/kfi_trace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,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 entry, function exit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 duration (mintime, max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rupt context (noints, only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fic function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ze of trace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Names vs. Addr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n configuration fil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76916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use function name in kfistatic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st use function address when writing config to /proc/k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 sym2addr to con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m2addr kficonf System.map &gt;kficonf.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kficonf.addr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Names vs. Addr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n trace outpu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776772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tput from /proc/kfi_trace has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convert to function names with addr2sy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/scripts/addr2sym kfi.log -m System.map &gt;kfi.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5-06-16T21:01:19Z</dcterms:modified>
  <cp:revision>33</cp:revision>
  <dc:subject/>
  <dc:title>Slide 1</dc:title>
</cp:coreProperties>
</file>